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BFFC-E0BD-48AF-A945-E88CFB1AC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8A4F-98D2-46A7-932D-7E5E9983E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6851-CF9C-4854-9C24-DAD582328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D9FF-C015-45AE-BBC6-D99882315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273D-0CDA-413F-A740-E02D7929F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FEE8-D228-4CD2-AC55-19DBA8186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6C0B-4F0D-4137-B80D-BC88F2EBF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B9F0-EAC2-442E-9D20-29E73C627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2B51-7E46-4250-9421-2BDB92D2F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43E6-C331-4245-BF56-1D150018A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7D82-AA89-4ED0-B308-F33CA4339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A4C7-10F9-4578-8CF5-41B233946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7876-BC88-488D-9C32-76A313763B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C79-4316-4658-B9CB-628F886425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and 5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3F3-7AF1-44AE-8685-929F2E5210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5530-EEAD-438B-A935-E8D43AB44E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and 6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008C-08E1-442C-9456-4615DBC239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29F4-E5B0-4989-B1A9-3541F2D7A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228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Mathematical Processes Packag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DA0-4213-41E9-92C4-11B64FB474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699-55EF-41E8-B83C-EF0BB5A364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1DDB-19E7-40FD-9470-C3A29DC703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A0F-DDA7-459F-8703-F211253CF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53416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on Keepin’ Tabs which have been numbered for ident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Using BLM PR3.3,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</a:t>
            </a:r>
            <a:r>
              <a:rPr b="1" i="1" lang="en-CA" sz="2200" spc="-1" strike="noStrike" u="sng">
                <a:solidFill>
                  <a:srgbClr val="ff0000"/>
                </a:solidFill>
                <a:uFillTx/>
                <a:latin typeface="Arial"/>
              </a:rPr>
              <a:t>appropriat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ox. </a:t>
            </a:r>
            <a:r>
              <a:rPr b="1" i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Remember the Math Process Feedback CARDS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A064-DEC4-44B8-A490-6DEA7449F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8ED-FD74-4766-B466-8398C965B1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i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with marke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on the  11x 17 paper (be sure to put the </a:t>
            </a:r>
            <a:r>
              <a:rPr b="0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student sample numbe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len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9A2-6135-440C-8045-46186CABDC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B4CC-35F5-490B-BC83-480FC5D330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6 by taking one person from each Expert Group table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1344-EC8A-4754-9999-A5DD3F00E8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EAA-F25A-4CC5-A26E-743900766F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9CC-956A-4694-9FE5-6F87D6587E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A50-F2AC-4A6F-B59C-AFA50B680E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C2B-248C-459C-BA73-F4663E3A8A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709-EF42-4611-9139-B759440AB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F394-2A94-47EA-AE1D-3D9D3D2321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FDF6-0ADB-4080-8A2B-DC9B27BE52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4B0-A1E7-45E0-9DE8-BF63D9BB0A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6F0-C90C-4715-A067-5C98B2F69B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0A4-BBCB-4866-AD39-330B9D7EB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3686-8753-42E1-92AD-D7D646C1CB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F60-AFD0-48A7-95F2-0A0CA4D33F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AE04-B611-4033-8123-66ECE15849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266E-FF0F-4ED2-A117-DCB0EACDAD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9A2-C2A1-41FD-9E01-C29F5FA4E3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 Clapping on appropriateness of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ore each out of 10 and then average to give one final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 is appropriate for the give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hythm matches the mood for the give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a score for each criteria along with feedback on how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BB09-CECB-4131-B058-97F20A4982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BF0B-ACD7-4AE5-8688-22474D09E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A389-B0B5-4134-B50F-A4C49AFEF0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E34-1E76-4114-95DE-91A412B13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3A6-B9AA-4B47-A9DD-BE325A0E8D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3A9-06F7-4229-AD5F-67F8A2EC63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,4,5,6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and 4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D511-00B1-425B-A332-281C8ABE77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418-3F12-4370-9938-65D3A1F140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9T02:59:43Z</dcterms:modified>
  <cp:revision>39</cp:revision>
  <dc:subject/>
  <dc:title>&lt;Title&gt;</dc:title>
</cp:coreProperties>
</file>